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9725-A165-4FAA-8DE7-513300B9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A1BC-2DBF-4542-ABAB-F0FACE17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1B59-2E4D-445E-9FFE-6C5D3691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74B0-379D-4FE3-9855-38F497DD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440E-C5AA-4D4E-B108-8BC7A960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5B81-11AB-4BD3-ADEE-E65E394F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8973-CC77-47BB-A28C-DCA66496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4B57-EAD2-4318-A164-28C6B416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D7FD-3656-4F20-BF74-4C44EF4D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DCAC-2B6B-48B5-A312-E8AC0052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5D39-F1B6-4FD9-8627-E12A3D13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346-4532-4E42-82C1-FB9A15B6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668B-F7C7-4947-9ED4-4340338D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82C1-EAA6-4EFA-A4A3-34C55D54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D64D-E6F8-4FC9-896F-5822E87D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CCCA-655B-4CFB-8F6D-7AED41A2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D5F8-1055-4ECF-856E-D2ADAF56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2EDF-9AA8-4AD7-A9F1-EA2F6200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0981-D65A-46CB-AAA4-258D61CD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7DF4-5070-433E-A862-37AFB7FE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29DA-8C1B-45C3-968D-E6CBF29A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B97-2043-461F-A7E2-B7CF8C97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9FE3-E28D-4C1A-A862-B1BF1A56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A75-D456-4A99-AACE-07F2855A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16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16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1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C4D7-8AE0-4668-9E00-42E2B3D012FD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04E7-478F-4850-90C5-2E8C1BB88EC3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f916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16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16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ailey and Julia Presents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Noble Gas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-4055040"/>
            <a:ext cx="698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-Heliu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-Ne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r-Arg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r-Krypt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Xe-Xen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n-Rad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l of these elements are gases… that’s why their called the Noble Gases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4360" y="189000"/>
            <a:ext cx="7019640" cy="12859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at Elements are in the Noble Gases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-3473280"/>
            <a:ext cx="8244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Noble Gases are located in what we like to call AIR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you would like to know…the noble gases are located right beside the Halogen Family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so the Noble Gases are found where the non-metals are.' Cause their either gases or non-me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26920" y="549360"/>
            <a:ext cx="74170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ere is it located??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High Or Low?!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gradFill rotWithShape="0">
            <a:gsLst>
              <a:gs pos="0">
                <a:srgbClr val="000082">
                  <a:alpha val="99215"/>
                </a:srgbClr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Noble Gases  Reactivity is very low so a world wide web says…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d you know that the number of Valence electrons The Noble Gases is 8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Where in the world are you elements?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found Helium! I found him on the su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h yeah, well I found Neon… in the air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found Argon in Volcanic Gas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ll I found Krypton on a meteori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Xenon is found on Meteorites al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on is found in underground deposi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6080" y="274680"/>
            <a:ext cx="71280" cy="698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rgon is used for Light Bulb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rypton is used for the lights on the airport runwa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Xeon is used for strobe ligh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on is used for high voltage indicato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lium is used for filling balloons as it is safer than Hydroge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on is actually not used for commercial produc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26920" y="620640"/>
            <a:ext cx="7467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What  are the elements used for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-4474080"/>
            <a:ext cx="13320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d you know that Radon is the second cause for lung cancer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r William was the first British chemist to successfully isolate the Noble Gas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on is the heaviest Noble Gas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32000" y="404640"/>
            <a:ext cx="590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Awesome Facts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-4396320"/>
            <a:ext cx="8244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iley and Julia thank you for watching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ke sure you check out other films of the periodic tabl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ay saf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do drug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e Happ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OD NIGHT EVERYBODY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16000" y="549360"/>
            <a:ext cx="63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Thanks For Watching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20:01:49Z</dcterms:created>
  <dc:creator>tatumadmin</dc:creator>
  <dc:description/>
  <dc:language>en-US</dc:language>
  <cp:lastModifiedBy>tatumadmin</cp:lastModifiedBy>
  <dcterms:modified xsi:type="dcterms:W3CDTF">2009-12-04T20:16:17Z</dcterms:modified>
  <cp:revision>5</cp:revision>
  <dc:subject/>
  <dc:title> Bailey and Julia Presents:</dc:title>
</cp:coreProperties>
</file>